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B35-9D2D-4A1D-B82D-D73E67B7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E5-26C2-4E25-8F58-F84B0A23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EB9E7-AAFF-4A5C-8F63-0BE5274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31024-7B71-4C52-A566-C69261A6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D573D-4154-4D70-8A00-47BFBF48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9FD26-ACC2-4501-8144-6BC7115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6CED-C24A-4479-AE4E-C58BC33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55911-9D5D-4882-B075-7949780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F6024-648C-4EA6-A7FB-E313C468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53675-D7EB-440C-81B1-71FA34E7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E56EB-85F2-48E1-9B59-9CC7F1E9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F80A5-F1C6-4A35-B0E5-3174C4D7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E47-4F71-453E-95D3-5F0F1795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28BEB-CA07-4B8F-926B-F5C82A6B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3DC97-9932-4C21-9DAD-0D1393FD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320C7-CFFB-4F44-A72D-73AEFBA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71215-5BCC-430B-94C4-E40FC44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C6F07-5BED-4952-9747-6645606C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8E06B-DADD-4D0F-891D-DD447C56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A6A88-13A0-4ABC-B9DE-FA2D35F9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07D4C-D7F8-4536-BC2C-B544441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F3094-4774-4E2A-BA1E-8BCE285F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3AF01-0ECF-4C3B-83DD-82E3EFB3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0DC-2D07-4E52-93D3-E6515799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6D8D6-DF4B-45A5-92DB-1D924B1A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F8F74-5A03-4875-AAB8-D7AF82BC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80E2A-9979-4873-A5A4-21FA572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6DB58-9CBD-4E88-ADF0-08FFB9A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9CB1-9711-4519-87B0-EE369C6A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ADC89-E4C8-49E7-A0AC-B50263A4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713C6-EBEB-44E8-9B27-133654CC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F266-6C86-48BD-B274-DCCE510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0C174-E604-4AAC-A3A1-B5DFF10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01F2-D6A8-44EE-B554-3BEC1AD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0866-B89E-45E4-A32F-F4FB445C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21108-881F-4F5B-9834-4DACEAB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304B1-683C-492C-AB83-70A997DB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0805A-3AE6-4658-A18E-7E8AA529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E945E-7EAD-4271-93D7-BFDB18D4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A703D-D83E-4462-86BB-1587AF3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E48F1-D302-40C4-BBC3-A2DA8D55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F7D73-4D28-4EE3-92BE-B910C199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10D87-5938-4655-AF83-5DFC96C5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D2BD4-26FC-4B7D-9881-64BC796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EED31-7B00-4DBA-8F31-EE410287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9D06-1276-4920-88F4-731B63E9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1789D-7904-4D52-98A5-87599C5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0A46C-C9D2-446B-911F-8C1A9E1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7536E-460C-41F0-A3D0-5DE9F374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0F8B5-C9D2-4C18-9527-2E1B404C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695A7-7BFA-43F1-A91A-9AB87C16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5DD2-29D2-49B8-BDCC-D588F69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5563-1735-44CD-B696-735A6A0B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879F-8511-4A73-99CD-FC0FAF4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B900-0A6A-4A65-8A1F-DD95106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F468-1FF1-42D3-9C81-DBB2D73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284-4537-45BA-AF88-A2E50FC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52AF-57FF-4FBE-8D45-96ACAE9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FCAC-78CF-4407-AD71-4642A93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A8B-AE0C-469D-818A-D7A9C09F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BFCA-3F4F-458F-9ABC-406A095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1E94-3D05-4D6D-B038-A34E75FF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3390-B016-40A1-855F-FB6B83BF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985B-19EC-4FED-A87F-51F422E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061A-0DF9-4E94-B0E2-2135D9D6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FD46-8388-4B80-844C-6837510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8EB8-42A3-4067-AD1D-FA724BD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0E1-EE2D-466A-A8D8-A8ACE24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E972-DBC3-483A-940F-BD8B6C6E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13F0-AA8C-4938-B031-476E718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A119-C847-47A4-B949-FA6349D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4A7D-C756-45E2-923B-603CFB1A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CE68-8A80-4105-8EAF-02C9F4F1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5946-4938-4F33-A7EF-098848B0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C2BF-30C4-48E8-8F6B-5DCE61F3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F35D-01E0-4486-9BAE-F3E95F14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1279-188A-465A-865D-8CB24766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3A5C-ED6C-4C7A-8B0F-91AFAA02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ECC-0EA9-4B22-AA28-D6A3562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C750-635A-44B5-BB93-658D1BFD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952D-8B56-4DE7-BDAD-61E1275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CAED-4D74-4EBE-AD4C-F04A6FBA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DD73-9BAD-4160-94F9-F8157D1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5711-CECC-42A3-ADD8-B420174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B243-A835-485F-A942-ED3C0B4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CE7E-7DA5-4354-BF71-5A6DF7F7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6792-D9FD-46DC-A3E1-8E6D8634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B43A-A80C-409D-AB86-60722DB5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64B9-EB49-4A3D-B5F0-AE8187A7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E95-40AC-42AC-816E-1E7828B3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2617-3E50-4C90-9934-F4F41FEA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EB01-1BB5-4B3A-A7A2-492CB72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F643-F7DC-4196-B031-5391C02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3412-FF49-42AE-94B1-6B378E90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110E-6874-41E7-BE65-4E1BA781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2128D-20DC-44CE-AB10-62AA3A1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035C-6390-44BD-84D7-9A355FC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2EAA1-B359-45D6-A1E9-C6AB7444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185D-48E8-45ED-ADB3-CEDF9B3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F13A-287C-46B3-9791-767A1A43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07C-93A4-4526-B747-AE600053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D02C-BB52-48F0-B50A-E915144D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234F-B3E1-49A9-A699-5CE82EA5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24923-126B-427C-9020-E2793685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51ED-459A-40FF-A5F1-D5CD9B0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C6FE-18CA-48AD-9FA1-AE81411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31C1-6C60-448A-B4B3-089C67B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4007-43ED-4C5D-A6E5-2EF13BA8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6214-7F9D-44DE-B82B-0AB48E1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6E456-354A-4ACC-8C96-5D691A7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B8D50-9DC6-4492-A14D-CAB5B6D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4CB-E82A-48A3-8E47-177098B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CC376-50FC-41CC-9CA4-66E36E25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6972-C972-42B1-99CB-52471FC9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CF86-85A8-454E-9F14-9B8CC80B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086B0-457E-4721-8440-AF77C083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3D3C-6B45-4FA2-A331-30EACE58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80B5-F061-4DCD-9A21-17E8099E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920A-825D-4790-B8BC-0BAF885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5F33-97B0-444F-80DD-AB1E8418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C13E-C6B2-4874-990A-76D6796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80AC8-0139-457B-83EA-2EB6A26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279-783F-4548-979F-E29B69E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63E79-353E-4061-BC26-307C79E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5977D-40C8-41D1-A8C9-FEA4018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1D0EB-44E4-4A33-8A27-FAC52C8D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CDC7-73EE-4FC5-98BA-A045119E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F754-2A19-4985-8890-B53D4143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5EEF-9391-4064-8B0E-E177F8CC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D3CF-024D-4AAB-9B5F-692FC72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5136C-EEBE-448E-8897-3C41B7A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799A-5B5A-4858-B285-B90BF46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04758-82DD-45F4-AA8F-4D1F16B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D7E-DEC1-414D-B558-11394B3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2F82E-20AF-40FC-9D96-74F75B8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2CDB-6ED6-41C8-AECB-72F6438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B8B9A-C97C-42D3-BCAE-6E87D86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7ECF-E9C3-493C-AD07-F3F16AB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1523-DAB4-4581-801A-560A5CB4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6C01-E540-4544-AF73-3B086C3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5496-3F4B-4C31-BD9D-AF401B16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2D98-083E-4F00-85DA-22261EF2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C1B1-22AC-42D1-9AFB-33F2A0A5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85A74-D999-4532-80D0-5457AB80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59B-D90D-4E41-AAD7-22F1E63C89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6FE8-9918-40B7-B2BB-3CC52029D3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E8F-6D57-44C8-85C3-AD65965F9B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FFA-0BE2-4802-A159-A0B7CB9D85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2D2-6098-43D6-B602-2008A23242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247-165B-45D5-8E99-5934DA69C2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D141-5BCC-402C-9407-187FE974E9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9848-3234-400E-A467-AE893028B1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63C4-2C2E-4B0B-87C7-023B3B3476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706-A76D-4FF4-AD70-0AF93E0FC7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DB6-A1A8-4B0F-A637-62434B8915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02A-392E-4C20-A761-C9222B8A3C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6 Ako harfy zvučné tó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harfy zvučné tó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by chválospev náš zn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mu, ktorý v nebi tró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nami verne b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eťou je vrúcnej vďa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a ranná modlit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eď slnko zastrú mra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a letí do n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ám s novým svetlom r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á milosť svitla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ým srdcom chváľme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vykupujme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6:30Z</dcterms:modified>
  <cp:revision>70</cp:revision>
  <dc:subject/>
  <dc:title>Je veľký náš Pán, on slávy je Kráľ Nech do všetkých strán  spev vrúcnych znie chvál.</dc:title>
</cp:coreProperties>
</file>